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E7B25B4-3CE5-4CEE-8F98-90BB79510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ubstituent număr diapozitiv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E15524F-651C-4455-89A7-B75E72B91409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ubstituent antet 4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suggest “</a:t>
            </a:r>
            <a:r>
              <a:rPr b="0" lang="en-US" sz="1200" spc="-1" strike="noStrike">
                <a:solidFill>
                  <a:srgbClr val="c0504d"/>
                </a:solidFill>
                <a:latin typeface="Arial"/>
              </a:rPr>
              <a:t>Based on public-private consultations THROUGH RI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BAA5-C989-4FAC-8CFF-78B14BAE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0D57-D5A0-41DE-9FDD-49E0B62B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1A4E-5966-49C7-A6D4-7108BA6D2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FC57-BAC4-4FDD-99EE-C27853F64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1058-1C35-425B-91A7-275B247D9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0C26-6010-4695-9C37-91050A2A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E9BE-CD57-425C-B9E5-FF4C95E8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61A2-9C7A-47B7-B5AD-1C02BAF2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227C-7550-4C5F-8D57-0A37F80A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394D-7480-4BA1-A476-C105F063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BEBF-A262-48C6-B30E-4C0D9983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02F8-E8B8-45F1-A20C-EF52E31D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79EE-35CC-4A10-8CBF-30EFAEE2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44C1-19D1-4165-A57E-B90899C8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6D55-137B-4344-B5C7-F27DD4F9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D305-B220-4A62-BF74-A0E76096F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170F-9241-4F61-A9F3-B4AADF3B6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79F7-5FF9-41DC-9134-67E36DB3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E74B-98F0-4E8E-88BC-8342C4B9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3DF9-3514-4CB1-B094-A6E7DCAE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5C4B-D713-4404-A6C3-AE95AC58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7F28-6C99-497F-A972-E84671B7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5DF0-4E71-4A12-A0DC-472A0CFC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9133-20D2-4912-A441-99BD2985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D04E-F39D-455D-A488-BE97F7751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16D2-3E71-4DD5-8B4A-920AEAA39C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pi-romania.eu/spi-secretariat/activity-reports/" TargetMode="External"/><Relationship Id="rId3" Type="http://schemas.openxmlformats.org/officeDocument/2006/relationships/hyperlink" Target="http://www.spi-romania.eu/spi-secretariat/activity-reports/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230880" y="0"/>
            <a:ext cx="2705040" cy="2336760"/>
          </a:xfrm>
          <a:prstGeom prst="rect">
            <a:avLst/>
          </a:prstGeom>
          <a:ln w="0">
            <a:noFill/>
          </a:ln>
        </p:spPr>
      </p:pic>
      <p:sp>
        <p:nvSpPr>
          <p:cNvPr id="90" name="Substituent număr diapozitiv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2273-1672-49EA-9542-0597B50A054D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68360" y="4868640"/>
            <a:ext cx="837072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European Banking Federation                               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27</a:t>
            </a:r>
            <a:r>
              <a:rPr b="0" lang="en-US" sz="2400" spc="-1" strike="noStrike" baseline="30000">
                <a:solidFill>
                  <a:srgbClr val="898989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 Meeting of the Associates                                                                     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Brussels</a:t>
            </a:r>
            <a:r>
              <a:rPr b="0" lang="ro-RO" sz="2000" spc="-1" strike="noStrike">
                <a:solidFill>
                  <a:srgbClr val="898989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4 December </a:t>
            </a:r>
            <a:r>
              <a:rPr b="0" lang="ro-RO" sz="2000" spc="-1" strike="noStrike">
                <a:solidFill>
                  <a:srgbClr val="898989"/>
                </a:solidFill>
                <a:latin typeface="Arial"/>
              </a:rPr>
              <a:t>2008</a:t>
            </a:r>
            <a:r>
              <a:rPr b="0" lang="ro-RO" sz="3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Luigi Passamo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Head, Convergence Program, 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286000"/>
            <a:ext cx="91440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blic-Priva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ncial Sector Modernizatio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South-East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 Bank’s Convergence Program SPI Plat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2276640"/>
            <a:ext cx="7345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3168720" cy="1177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5280" y="2565360"/>
            <a:ext cx="8209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521400"/>
            <a:ext cx="47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sion 4 December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5480" y="928800"/>
            <a:ext cx="53658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 SPI Romania Activity</a:t>
            </a:r>
            <a:br>
              <a:rPr sz="2400"/>
            </a:br>
            <a:r>
              <a:rPr b="1" lang="ro-RO" sz="1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</a:t>
            </a:r>
            <a:r>
              <a:rPr b="1" lang="ro-RO" sz="1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spi-romania.eu/spi-secretariat/activity-reports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CasetăText 19"/>
          <p:cNvSpPr/>
          <p:nvPr/>
        </p:nvSpPr>
        <p:spPr>
          <a:xfrm>
            <a:off x="250920" y="1484280"/>
            <a:ext cx="49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ancial Impact of Finalized SPI Projects (€ Mln) – First Ful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ubstituent număr diapozitiv 18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12DE-4DAB-47A6-ABFB-CD955A61E2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6"/>
          <p:cNvSpPr/>
          <p:nvPr/>
        </p:nvSpPr>
        <p:spPr>
          <a:xfrm>
            <a:off x="455760" y="1754280"/>
            <a:ext cx="393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olume Impact (% of 2007 targ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257040" y="6324480"/>
            <a:ext cx="502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Lending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630360" y="2198520"/>
            <a:ext cx="4043160" cy="383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630360" y="2182680"/>
            <a:ext cx="0" cy="384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2"/>
          <p:cNvSpPr/>
          <p:nvPr/>
        </p:nvSpPr>
        <p:spPr>
          <a:xfrm>
            <a:off x="777960" y="5961240"/>
            <a:ext cx="33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596880" y="560880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596880" y="518328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596880" y="475920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6"/>
          <p:cNvSpPr/>
          <p:nvPr/>
        </p:nvSpPr>
        <p:spPr>
          <a:xfrm>
            <a:off x="596880" y="433548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7"/>
          <p:cNvSpPr/>
          <p:nvPr/>
        </p:nvSpPr>
        <p:spPr>
          <a:xfrm>
            <a:off x="596880" y="390996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596880" y="348624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596880" y="306216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0"/>
          <p:cNvSpPr/>
          <p:nvPr/>
        </p:nvSpPr>
        <p:spPr>
          <a:xfrm>
            <a:off x="596880" y="263844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1"/>
          <p:cNvSpPr/>
          <p:nvPr/>
        </p:nvSpPr>
        <p:spPr>
          <a:xfrm>
            <a:off x="596880" y="221292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3"/>
          <p:cNvSpPr/>
          <p:nvPr/>
        </p:nvSpPr>
        <p:spPr>
          <a:xfrm>
            <a:off x="630360" y="6032520"/>
            <a:ext cx="4052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4"/>
          <p:cNvSpPr/>
          <p:nvPr/>
        </p:nvSpPr>
        <p:spPr>
          <a:xfrm flipV="1">
            <a:off x="63036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5"/>
          <p:cNvSpPr/>
          <p:nvPr/>
        </p:nvSpPr>
        <p:spPr>
          <a:xfrm flipV="1">
            <a:off x="231768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6"/>
          <p:cNvSpPr/>
          <p:nvPr/>
        </p:nvSpPr>
        <p:spPr>
          <a:xfrm flipV="1">
            <a:off x="400212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7"/>
          <p:cNvSpPr/>
          <p:nvPr/>
        </p:nvSpPr>
        <p:spPr>
          <a:xfrm flipV="1">
            <a:off x="467208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6"/>
          <p:cNvSpPr/>
          <p:nvPr/>
        </p:nvSpPr>
        <p:spPr>
          <a:xfrm>
            <a:off x="480600" y="5970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7"/>
          <p:cNvSpPr/>
          <p:nvPr/>
        </p:nvSpPr>
        <p:spPr>
          <a:xfrm>
            <a:off x="418680" y="5546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8"/>
          <p:cNvSpPr/>
          <p:nvPr/>
        </p:nvSpPr>
        <p:spPr>
          <a:xfrm>
            <a:off x="418680" y="5121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9"/>
          <p:cNvSpPr/>
          <p:nvPr/>
        </p:nvSpPr>
        <p:spPr>
          <a:xfrm>
            <a:off x="418680" y="4699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0"/>
          <p:cNvSpPr/>
          <p:nvPr/>
        </p:nvSpPr>
        <p:spPr>
          <a:xfrm>
            <a:off x="418680" y="4273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1"/>
          <p:cNvSpPr/>
          <p:nvPr/>
        </p:nvSpPr>
        <p:spPr>
          <a:xfrm>
            <a:off x="418680" y="3848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2"/>
          <p:cNvSpPr/>
          <p:nvPr/>
        </p:nvSpPr>
        <p:spPr>
          <a:xfrm>
            <a:off x="418680" y="3425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3"/>
          <p:cNvSpPr/>
          <p:nvPr/>
        </p:nvSpPr>
        <p:spPr>
          <a:xfrm>
            <a:off x="418680" y="30002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4"/>
          <p:cNvSpPr/>
          <p:nvPr/>
        </p:nvSpPr>
        <p:spPr>
          <a:xfrm>
            <a:off x="418680" y="25765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5"/>
          <p:cNvSpPr/>
          <p:nvPr/>
        </p:nvSpPr>
        <p:spPr>
          <a:xfrm>
            <a:off x="418680" y="2152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7"/>
          <p:cNvSpPr/>
          <p:nvPr/>
        </p:nvSpPr>
        <p:spPr>
          <a:xfrm>
            <a:off x="620280" y="6124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8"/>
          <p:cNvSpPr/>
          <p:nvPr/>
        </p:nvSpPr>
        <p:spPr>
          <a:xfrm>
            <a:off x="222012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9"/>
          <p:cNvSpPr/>
          <p:nvPr/>
        </p:nvSpPr>
        <p:spPr>
          <a:xfrm>
            <a:off x="390456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0"/>
          <p:cNvSpPr/>
          <p:nvPr/>
        </p:nvSpPr>
        <p:spPr>
          <a:xfrm>
            <a:off x="457452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3"/>
          <p:cNvSpPr/>
          <p:nvPr/>
        </p:nvSpPr>
        <p:spPr>
          <a:xfrm flipV="1">
            <a:off x="660240" y="5033520"/>
            <a:ext cx="925560" cy="9889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4"/>
          <p:cNvSpPr/>
          <p:nvPr/>
        </p:nvSpPr>
        <p:spPr>
          <a:xfrm>
            <a:off x="1688760" y="3664080"/>
            <a:ext cx="991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bit Instrument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5"/>
          <p:cNvSpPr/>
          <p:nvPr/>
        </p:nvSpPr>
        <p:spPr>
          <a:xfrm>
            <a:off x="1324080" y="3521160"/>
            <a:ext cx="25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6"/>
          <p:cNvSpPr/>
          <p:nvPr/>
        </p:nvSpPr>
        <p:spPr>
          <a:xfrm>
            <a:off x="2795760" y="334008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ral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7"/>
          <p:cNvSpPr/>
          <p:nvPr/>
        </p:nvSpPr>
        <p:spPr>
          <a:xfrm>
            <a:off x="2368440" y="2793960"/>
            <a:ext cx="33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8"/>
          <p:cNvSpPr/>
          <p:nvPr/>
        </p:nvSpPr>
        <p:spPr>
          <a:xfrm>
            <a:off x="860760" y="5791320"/>
            <a:ext cx="801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Safe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9"/>
          <p:cNvSpPr/>
          <p:nvPr/>
        </p:nvSpPr>
        <p:spPr>
          <a:xfrm>
            <a:off x="1439280" y="324468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nk Ombuds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61"/>
          <p:cNvSpPr/>
          <p:nvPr/>
        </p:nvSpPr>
        <p:spPr>
          <a:xfrm>
            <a:off x="723960" y="5910120"/>
            <a:ext cx="60120" cy="71640"/>
          </a:xfrm>
          <a:prstGeom prst="pie">
            <a:avLst/>
          </a:prstGeom>
          <a:solidFill>
            <a:srgbClr val="00ff00"/>
          </a:solidFill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5"/>
          <p:cNvSpPr/>
          <p:nvPr/>
        </p:nvSpPr>
        <p:spPr>
          <a:xfrm flipV="1">
            <a:off x="1590840" y="3578400"/>
            <a:ext cx="41040" cy="1420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6"/>
          <p:cNvSpPr/>
          <p:nvPr/>
        </p:nvSpPr>
        <p:spPr>
          <a:xfrm flipV="1">
            <a:off x="1611360" y="3460320"/>
            <a:ext cx="181080" cy="133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7"/>
          <p:cNvSpPr/>
          <p:nvPr/>
        </p:nvSpPr>
        <p:spPr>
          <a:xfrm flipV="1">
            <a:off x="2720880" y="2889360"/>
            <a:ext cx="0" cy="5112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9"/>
          <p:cNvSpPr/>
          <p:nvPr/>
        </p:nvSpPr>
        <p:spPr>
          <a:xfrm flipV="1">
            <a:off x="1806480" y="3403440"/>
            <a:ext cx="912960" cy="52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29"/>
          <p:cNvSpPr/>
          <p:nvPr/>
        </p:nvSpPr>
        <p:spPr>
          <a:xfrm>
            <a:off x="1558800" y="5000760"/>
            <a:ext cx="93960" cy="7452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30"/>
          <p:cNvSpPr/>
          <p:nvPr/>
        </p:nvSpPr>
        <p:spPr>
          <a:xfrm flipH="1">
            <a:off x="1596240" y="3699000"/>
            <a:ext cx="82440" cy="6336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1"/>
          <p:cNvSpPr/>
          <p:nvPr/>
        </p:nvSpPr>
        <p:spPr>
          <a:xfrm>
            <a:off x="1585800" y="3527280"/>
            <a:ext cx="57240" cy="828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2"/>
          <p:cNvSpPr/>
          <p:nvPr/>
        </p:nvSpPr>
        <p:spPr>
          <a:xfrm>
            <a:off x="1774800" y="3416400"/>
            <a:ext cx="66600" cy="6336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33"/>
          <p:cNvSpPr/>
          <p:nvPr/>
        </p:nvSpPr>
        <p:spPr>
          <a:xfrm>
            <a:off x="2695680" y="3373560"/>
            <a:ext cx="56880" cy="540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34"/>
          <p:cNvSpPr/>
          <p:nvPr/>
        </p:nvSpPr>
        <p:spPr>
          <a:xfrm>
            <a:off x="2695680" y="2867040"/>
            <a:ext cx="56880" cy="522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5"/>
          <p:cNvSpPr/>
          <p:nvPr/>
        </p:nvSpPr>
        <p:spPr>
          <a:xfrm rot="16200000">
            <a:off x="-2206080" y="3906720"/>
            <a:ext cx="468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Sav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8"/>
          <p:cNvSpPr/>
          <p:nvPr/>
        </p:nvSpPr>
        <p:spPr>
          <a:xfrm rot="5400000">
            <a:off x="3799080" y="4442400"/>
            <a:ext cx="28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st Savings Impact (% of 2007 targ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80"/>
          <p:cNvSpPr/>
          <p:nvPr/>
        </p:nvSpPr>
        <p:spPr>
          <a:xfrm>
            <a:off x="776160" y="1700280"/>
            <a:ext cx="4029120" cy="331560"/>
          </a:xfrm>
          <a:prstGeom prst="rightArrow">
            <a:avLst>
              <a:gd name="adj1" fmla="val 50000"/>
              <a:gd name="adj2" fmla="val 3038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82"/>
          <p:cNvSpPr/>
          <p:nvPr/>
        </p:nvSpPr>
        <p:spPr>
          <a:xfrm rot="16200000">
            <a:off x="3294000" y="3887280"/>
            <a:ext cx="3848040" cy="425520"/>
          </a:xfrm>
          <a:prstGeom prst="rightArrow">
            <a:avLst>
              <a:gd name="adj1" fmla="val 50000"/>
              <a:gd name="adj2" fmla="val 22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3"/>
          <p:cNvSpPr/>
          <p:nvPr/>
        </p:nvSpPr>
        <p:spPr>
          <a:xfrm>
            <a:off x="4575240" y="274464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8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84"/>
          <p:cNvSpPr/>
          <p:nvPr/>
        </p:nvSpPr>
        <p:spPr>
          <a:xfrm>
            <a:off x="636480" y="6027840"/>
            <a:ext cx="4052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5"/>
          <p:cNvSpPr/>
          <p:nvPr/>
        </p:nvSpPr>
        <p:spPr>
          <a:xfrm flipV="1">
            <a:off x="1111320" y="5920920"/>
            <a:ext cx="201600" cy="165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6"/>
          <p:cNvSpPr/>
          <p:nvPr/>
        </p:nvSpPr>
        <p:spPr>
          <a:xfrm flipH="1">
            <a:off x="1306080" y="5904000"/>
            <a:ext cx="11160" cy="274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87"/>
          <p:cNvSpPr/>
          <p:nvPr/>
        </p:nvSpPr>
        <p:spPr>
          <a:xfrm flipV="1">
            <a:off x="1309680" y="5973840"/>
            <a:ext cx="223920" cy="201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89"/>
          <p:cNvSpPr/>
          <p:nvPr/>
        </p:nvSpPr>
        <p:spPr>
          <a:xfrm>
            <a:off x="2716200" y="2894040"/>
            <a:ext cx="1962000" cy="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3"/>
          <p:cNvSpPr/>
          <p:nvPr/>
        </p:nvSpPr>
        <p:spPr>
          <a:xfrm>
            <a:off x="189000" y="2746440"/>
            <a:ext cx="5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504d"/>
                </a:solidFill>
                <a:latin typeface="Arial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94"/>
          <p:cNvSpPr/>
          <p:nvPr/>
        </p:nvSpPr>
        <p:spPr>
          <a:xfrm flipV="1">
            <a:off x="2816280" y="602424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95"/>
          <p:cNvSpPr/>
          <p:nvPr/>
        </p:nvSpPr>
        <p:spPr>
          <a:xfrm>
            <a:off x="604800" y="2881440"/>
            <a:ext cx="349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onector drept 170"/>
          <p:cNvSpPr/>
          <p:nvPr/>
        </p:nvSpPr>
        <p:spPr>
          <a:xfrm>
            <a:off x="627120" y="3875040"/>
            <a:ext cx="2185920" cy="2168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onector drept 171"/>
          <p:cNvSpPr/>
          <p:nvPr/>
        </p:nvSpPr>
        <p:spPr>
          <a:xfrm>
            <a:off x="638280" y="2506680"/>
            <a:ext cx="3671640" cy="3500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asetăText 95"/>
          <p:cNvSpPr/>
          <p:nvPr/>
        </p:nvSpPr>
        <p:spPr>
          <a:xfrm rot="2788800">
            <a:off x="1830240" y="4651920"/>
            <a:ext cx="11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M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onector drept 173"/>
          <p:cNvSpPr/>
          <p:nvPr/>
        </p:nvSpPr>
        <p:spPr>
          <a:xfrm>
            <a:off x="2011320" y="2205000"/>
            <a:ext cx="2641680" cy="26082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CasetăText 100"/>
          <p:cNvSpPr/>
          <p:nvPr/>
        </p:nvSpPr>
        <p:spPr>
          <a:xfrm rot="2788800">
            <a:off x="2630160" y="4056480"/>
            <a:ext cx="11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Ju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7"/>
          <p:cNvSpPr/>
          <p:nvPr/>
        </p:nvSpPr>
        <p:spPr>
          <a:xfrm flipH="1" flipV="1">
            <a:off x="2752200" y="2899440"/>
            <a:ext cx="1782000" cy="9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asetăText 176"/>
          <p:cNvSpPr/>
          <p:nvPr/>
        </p:nvSpPr>
        <p:spPr>
          <a:xfrm>
            <a:off x="4148280" y="6035760"/>
            <a:ext cx="50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2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CasetăText 104"/>
          <p:cNvSpPr/>
          <p:nvPr/>
        </p:nvSpPr>
        <p:spPr>
          <a:xfrm>
            <a:off x="3746520" y="2637000"/>
            <a:ext cx="121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CasetăText 91"/>
          <p:cNvSpPr/>
          <p:nvPr/>
        </p:nvSpPr>
        <p:spPr>
          <a:xfrm>
            <a:off x="1490760" y="6093000"/>
            <a:ext cx="45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90"/>
          <p:cNvSpPr/>
          <p:nvPr/>
        </p:nvSpPr>
        <p:spPr>
          <a:xfrm flipH="1">
            <a:off x="4500720" y="2203560"/>
            <a:ext cx="41040" cy="383544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7"/>
          <p:cNvSpPr/>
          <p:nvPr/>
        </p:nvSpPr>
        <p:spPr>
          <a:xfrm>
            <a:off x="4214880" y="1943280"/>
            <a:ext cx="5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9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31"/>
          <p:cNvSpPr/>
          <p:nvPr/>
        </p:nvSpPr>
        <p:spPr>
          <a:xfrm flipH="1" flipV="1">
            <a:off x="4486320" y="2846520"/>
            <a:ext cx="77760" cy="55440"/>
          </a:xfrm>
          <a:prstGeom prst="pi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2"/>
          <p:cNvSpPr/>
          <p:nvPr/>
        </p:nvSpPr>
        <p:spPr>
          <a:xfrm>
            <a:off x="1671840" y="4979880"/>
            <a:ext cx="110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itive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CasetăText 88"/>
          <p:cNvSpPr/>
          <p:nvPr/>
        </p:nvSpPr>
        <p:spPr>
          <a:xfrm rot="2788800">
            <a:off x="903960" y="5241240"/>
            <a:ext cx="115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December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CasetăText 100"/>
          <p:cNvSpPr/>
          <p:nvPr/>
        </p:nvSpPr>
        <p:spPr>
          <a:xfrm rot="2788800">
            <a:off x="3458160" y="32396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asetăText 4"/>
          <p:cNvSpPr/>
          <p:nvPr/>
        </p:nvSpPr>
        <p:spPr>
          <a:xfrm>
            <a:off x="6219720" y="1062000"/>
            <a:ext cx="2786040" cy="48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otal number of projects: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updated October 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elf regulatory actions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ansion of positive information   sha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buds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tgage loan servicing and loss given default  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umer financial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F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dit exposures stress testing                   techn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gulatory changes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-processing of debit instru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L Law Amend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ral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gulatory changes unde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goods safeguard, values and persons protec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RS loan loss provisio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oposals to be completed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bank letters of guaran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land Berger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band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dit rating agen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Oval 180"/>
          <p:cNvGrpSpPr/>
          <p:nvPr/>
        </p:nvGrpSpPr>
        <p:grpSpPr>
          <a:xfrm>
            <a:off x="5867280" y="1628640"/>
            <a:ext cx="382680" cy="378000"/>
            <a:chOff x="5867280" y="1628640"/>
            <a:chExt cx="382680" cy="378000"/>
          </a:xfrm>
        </p:grpSpPr>
        <p:pic>
          <p:nvPicPr>
            <p:cNvPr id="285" name="Oval 180" descr=""/>
            <p:cNvPicPr/>
            <p:nvPr/>
          </p:nvPicPr>
          <p:blipFill>
            <a:blip r:embed="rId4"/>
            <a:stretch/>
          </p:blipFill>
          <p:spPr>
            <a:xfrm>
              <a:off x="5867280" y="1628640"/>
              <a:ext cx="38268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5931000" y="1692000"/>
              <a:ext cx="25164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Oval 181"/>
          <p:cNvGrpSpPr/>
          <p:nvPr/>
        </p:nvGrpSpPr>
        <p:grpSpPr>
          <a:xfrm>
            <a:off x="5867280" y="5486400"/>
            <a:ext cx="384120" cy="384120"/>
            <a:chOff x="5867280" y="5486400"/>
            <a:chExt cx="384120" cy="384120"/>
          </a:xfrm>
        </p:grpSpPr>
        <p:pic>
          <p:nvPicPr>
            <p:cNvPr id="288" name="Oval 181" descr=""/>
            <p:cNvPicPr/>
            <p:nvPr/>
          </p:nvPicPr>
          <p:blipFill>
            <a:blip r:embed="rId5"/>
            <a:stretch/>
          </p:blipFill>
          <p:spPr>
            <a:xfrm>
              <a:off x="5867280" y="548640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933160" y="5550120"/>
              <a:ext cx="25272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Oval 182"/>
          <p:cNvGrpSpPr/>
          <p:nvPr/>
        </p:nvGrpSpPr>
        <p:grpSpPr>
          <a:xfrm>
            <a:off x="5867280" y="4724280"/>
            <a:ext cx="389160" cy="378000"/>
            <a:chOff x="5867280" y="4724280"/>
            <a:chExt cx="389160" cy="378000"/>
          </a:xfrm>
        </p:grpSpPr>
        <p:pic>
          <p:nvPicPr>
            <p:cNvPr id="291" name="Oval 182" descr=""/>
            <p:cNvPicPr/>
            <p:nvPr/>
          </p:nvPicPr>
          <p:blipFill>
            <a:blip r:embed="rId6"/>
            <a:stretch/>
          </p:blipFill>
          <p:spPr>
            <a:xfrm>
              <a:off x="5867280" y="4724280"/>
              <a:ext cx="3891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5932440" y="4785840"/>
              <a:ext cx="25776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4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Dreptunghi 93"/>
          <p:cNvSpPr/>
          <p:nvPr/>
        </p:nvSpPr>
        <p:spPr>
          <a:xfrm>
            <a:off x="5791320" y="990720"/>
            <a:ext cx="3214440" cy="5214960"/>
          </a:xfrm>
          <a:prstGeom prst="rect">
            <a:avLst/>
          </a:prstGeom>
          <a:noFill/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Oval 94"/>
          <p:cNvGrpSpPr/>
          <p:nvPr/>
        </p:nvGrpSpPr>
        <p:grpSpPr>
          <a:xfrm>
            <a:off x="5867280" y="4005360"/>
            <a:ext cx="382680" cy="377640"/>
            <a:chOff x="5867280" y="4005360"/>
            <a:chExt cx="382680" cy="377640"/>
          </a:xfrm>
        </p:grpSpPr>
        <p:pic>
          <p:nvPicPr>
            <p:cNvPr id="295" name="Oval 94" descr=""/>
            <p:cNvPicPr/>
            <p:nvPr/>
          </p:nvPicPr>
          <p:blipFill>
            <a:blip r:embed="rId7"/>
            <a:stretch/>
          </p:blipFill>
          <p:spPr>
            <a:xfrm>
              <a:off x="5867280" y="4005360"/>
              <a:ext cx="38268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5930640" y="4067280"/>
              <a:ext cx="2527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4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Oval 180"/>
          <p:cNvGrpSpPr/>
          <p:nvPr/>
        </p:nvGrpSpPr>
        <p:grpSpPr>
          <a:xfrm>
            <a:off x="5796000" y="3068640"/>
            <a:ext cx="382680" cy="378000"/>
            <a:chOff x="5796000" y="3068640"/>
            <a:chExt cx="382680" cy="378000"/>
          </a:xfrm>
        </p:grpSpPr>
        <p:pic>
          <p:nvPicPr>
            <p:cNvPr id="298" name="Oval 180" descr=""/>
            <p:cNvPicPr/>
            <p:nvPr/>
          </p:nvPicPr>
          <p:blipFill>
            <a:blip r:embed="rId8"/>
            <a:stretch/>
          </p:blipFill>
          <p:spPr>
            <a:xfrm>
              <a:off x="5796000" y="3068640"/>
              <a:ext cx="38268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5859720" y="3132000"/>
              <a:ext cx="25164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0" y="65530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SPI Romania 2007 Annual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796000" y="393372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processing of large modernizatio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-15 key projects/year (€20k/proj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sts: 0.5% of annual gains for banking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 Platform domestic sustainability i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-private governance and “Better Regulation” tools extend country’s reform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 Committee becomes country’s reform “champ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-agency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“Better Regulation” Technical Secretari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 Examples: Prudential IFRS, stress-testing, capital adequacy,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tical reform teams draw on industry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ties associated throughout analytica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participants acquire “right of initiativ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to authorities’ non-obj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alyzing Modernizat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for Public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hing”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ies will launch modernizatio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accepted analytical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, “Basel Core Principles for Banking Supervis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ization ranks lower than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used proxy: “Regulatory Guilloti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participants will recognize modernization opportunities are within reach of collective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ill overcome coordination problems and initiate strengthening of analytical and advocacy activities to engage with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process (governance obstacles, poor track record of value for investment in ideas, weak dialogue frame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authorities undertake moder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pheral objective to core man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needs are broad, diverse and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strengthen Banking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ment in analytical capacity unsustainable unless quick results accrue through dialogue with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shape public-private dia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undertaking of a modernization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ance suited to inter-institutional co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ng Associations grow as trusted dialogue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ities could outsource analytics on most steps of non-core decisions based on “Better Regul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" y="3962520"/>
            <a:ext cx="876312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alyzing Modernizat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for Public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EU Neighborhood                         Financial Modernization Initi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1600200"/>
            <a:ext cx="8001000" cy="106884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 Neighbors Modernization          Public-Private Steering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3048120"/>
            <a:ext cx="2895840" cy="5205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4876920"/>
            <a:ext cx="28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4876920"/>
            <a:ext cx="289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95880" y="4876920"/>
            <a:ext cx="3048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676520" y="48006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5902200"/>
            <a:ext cx="13716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ing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6201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765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19320" y="532440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315200" y="533412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533412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4038480"/>
            <a:ext cx="5029200" cy="398880"/>
          </a:xfrm>
          <a:prstGeom prst="rect">
            <a:avLst/>
          </a:prstGeom>
          <a:solidFill>
            <a:srgbClr val="f4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Technical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733920" y="5902200"/>
            <a:ext cx="1447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Auth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257800" y="5902200"/>
            <a:ext cx="144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Sponsors’ Vantage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9372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ropean Com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local authorities extend engagement beyond stability into market efficiency iss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transparent and cost-efficient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stering “Better Regulation”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ropean Banking Fe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e banking and policy analysis expertise to help solve under-attended efficienc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menting EU institutions assistance in area of comparative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ing growth of its Associate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for Associate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ector becomes more growth-suppor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upport economic rebound after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nking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s much broader work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line with EU Assoc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nk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business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ory optimization helps with cost effici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r product choice offers new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seminars with EU institutions to deepen understanding of SPI Platform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 with own mandates and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bility to future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from market participants of unmet modernization needs in EU neighboring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from Associate Members very us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EBF members’ technical assistance capabil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BF proposal to European Commission for EU Neighborhood Financial Modernization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72388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28600" y="1447920"/>
            <a:ext cx="861048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nched in 2005 by the World Bank with support from Italy’s Ministry of Economy and Finance,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Pro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mot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ncial sector modern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South-East Europe through public-private sector co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a “BOT” concept (Build-Operate-Transfer), the Convergence Program helps authorities and market participants set up and operate a partnership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 Plat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whose governance, organization and “Better Regulation” analytical methods enable the pursuit of a broad-based modernization program largely executed by local public-private te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intended that local stakeholders take operational and financial responsibility for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 Plat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fter a two-year Convergence Program involv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vergence Program has been active in Albania, Bulgaria, Croatia and Romania. It has ongoing discussions in Moldova and Serbia. Its mandate, renewed in December 2007, ends in 2009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vergence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Representation Gap In Key Marke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495288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5257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600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6248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4572000"/>
            <a:ext cx="17524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Dome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572000"/>
            <a:ext cx="190512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495288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U Harmo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0" y="4572000"/>
            <a:ext cx="1828800" cy="152388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62326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609588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20364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3200400"/>
            <a:ext cx="1828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1219320"/>
            <a:ext cx="17528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1219320"/>
            <a:ext cx="18288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 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1219320"/>
            <a:ext cx="1676520" cy="82548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BF AC 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3200400"/>
            <a:ext cx="1371600" cy="45972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36576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20574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20574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4956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62920" y="2438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2133720"/>
            <a:ext cx="0" cy="10666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81680" y="5105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772400" y="3657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971800"/>
            <a:ext cx="2133720" cy="106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ING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itution Building 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BF Associate Countr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839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ssion supports EBF AC supervis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€3 million program in Ukr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B supports AC Central Ban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in Russia, Serbia, Bosnia-Herzegovina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supports AC Bank Associ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behind in public-privat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ould outside resources stimulate authorities to make more use of banking sector in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ttangolo 4"/>
          <p:cNvSpPr/>
          <p:nvPr/>
        </p:nvSpPr>
        <p:spPr>
          <a:xfrm>
            <a:off x="76320" y="685800"/>
            <a:ext cx="3809880" cy="58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country accounting standards with international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ke financial statements' certification mandatory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e professional accountants' regis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credit bure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credit bureaus' 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edit bureaus to contain both positive and negative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provide personal information to credit bureaus without con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effectively monitor the activities of the borr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tailored scoring system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tailored scoring systems for micro fi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rtify bank internal rating procedure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 a Corporate Banking Information datas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share information about custom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information flow among banks belonging to a gro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oss-border exchange of information between bure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microcredit guarantee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edit s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ulate letters of credit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investment banking services to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access to non-bank lenders' and creditors' data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ften personal data protec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land regis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land registries' access poli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ersonal bank guaran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ersonal wage assig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consumption cred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tax and utilities bank pay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rtify real estate assess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real estate assess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young peo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women cl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ttangolo 7"/>
          <p:cNvSpPr/>
          <p:nvPr/>
        </p:nvSpPr>
        <p:spPr>
          <a:xfrm>
            <a:off x="76320" y="685800"/>
            <a:ext cx="380988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asellaDiTesto 9"/>
          <p:cNvSpPr/>
          <p:nvPr/>
        </p:nvSpPr>
        <p:spPr>
          <a:xfrm>
            <a:off x="0" y="38088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Informational asymme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ttangolo 5"/>
          <p:cNvSpPr/>
          <p:nvPr/>
        </p:nvSpPr>
        <p:spPr>
          <a:xfrm>
            <a:off x="3962520" y="685800"/>
            <a:ext cx="2514600" cy="60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access to international funding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up-to-date regulation of OTC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competition among market provi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e new network fac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pdate existing network fac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ove IT constra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 new geographical ar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 new population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ulate financial innov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 public authorities' skills on advanced 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roject financ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group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microcredit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 secured corporate bo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standardized pay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potential market particip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leasing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factoring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venture capital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rivate equity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derivatives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asset management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/L insurance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life insurance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ension fu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ecurit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d develop stock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tudents' lo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mortgages bo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mortgage insu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ttangolo 9"/>
          <p:cNvSpPr/>
          <p:nvPr/>
        </p:nvSpPr>
        <p:spPr>
          <a:xfrm>
            <a:off x="3962520" y="685800"/>
            <a:ext cx="236196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asellaDiTesto 11"/>
          <p:cNvSpPr/>
          <p:nvPr/>
        </p:nvSpPr>
        <p:spPr>
          <a:xfrm>
            <a:off x="3581280" y="4255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Incompleteness of mar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ttangolo 3"/>
          <p:cNvSpPr/>
          <p:nvPr/>
        </p:nvSpPr>
        <p:spPr>
          <a:xfrm>
            <a:off x="6400800" y="685800"/>
            <a:ext cx="2743200" cy="53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fir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bank offic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financial skills to public author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judges about advanced financial iss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bank bran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AT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specialized cou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form bankruptcy l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implification / standardization of financial contrac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international contractual for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ontracts specifically tailored for financial produc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investors’ / creditors' prot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better interface between real and financial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lement simple / standardized legal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lement efficient credit recovery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arbitration procedures (previously agreed upon by counterpar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ort pre-trial settle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firms / associations of firms and financial institutions / association of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consum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associations of consumers and  association of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ttangolo 12"/>
          <p:cNvSpPr/>
          <p:nvPr/>
        </p:nvSpPr>
        <p:spPr>
          <a:xfrm>
            <a:off x="6400800" y="685800"/>
            <a:ext cx="274320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asellaDiTesto 12"/>
          <p:cNvSpPr/>
          <p:nvPr/>
        </p:nvSpPr>
        <p:spPr>
          <a:xfrm>
            <a:off x="6172200" y="4572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ack of access to financial 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asellaDiTesto 5"/>
          <p:cNvSpPr/>
          <p:nvPr/>
        </p:nvSpPr>
        <p:spPr>
          <a:xfrm>
            <a:off x="0" y="-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ANCIAL MODERNIZATION OPPORTUNIT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ttangolo 4"/>
          <p:cNvSpPr/>
          <p:nvPr/>
        </p:nvSpPr>
        <p:spPr>
          <a:xfrm>
            <a:off x="5603760" y="685800"/>
            <a:ext cx="2625840" cy="59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antitrust authority, with the power to investigate financial institutions and enforce antitrust regulation, and veto power over M&amp;A operations in the financial s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e Antitrust Authority indepen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 international standards on antitrust regul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transparent criteria to identify abusive dominant pos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the antitrust authority and the national associations of banks and fi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quick and efficient licensing procedures for prospective national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ften limits on interest r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eralize commissions on payment instru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ort competitive risk / lending polic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parate lending from account op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nk deposit insurance premiums to risk prof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quick and efficient licensing procedures for international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competitive market procedures for the acquisition of distressed national banks /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gn bilateral agreements to allow foreign licensed institutions to operate in the national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antitrust law to international standards regarding advertis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correct information to the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eralize mortgage insurance mark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ttangolo 7"/>
          <p:cNvSpPr/>
          <p:nvPr/>
        </p:nvSpPr>
        <p:spPr>
          <a:xfrm>
            <a:off x="5562720" y="685800"/>
            <a:ext cx="274320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10"/>
          <p:cNvSpPr/>
          <p:nvPr/>
        </p:nvSpPr>
        <p:spPr>
          <a:xfrm>
            <a:off x="5562720" y="45720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ack of compet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ttangolo 11"/>
          <p:cNvSpPr/>
          <p:nvPr/>
        </p:nvSpPr>
        <p:spPr>
          <a:xfrm>
            <a:off x="609480" y="685800"/>
            <a:ext cx="3810240" cy="56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opt international core principles for payment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development of new payment instruments (mobile phon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payment orders'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payment orders' procedures to international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documentation for international pay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reporting and registration procedures of international loa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rove IT infrastruc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efficient network for credit c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efficient network of electronic branches (AT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local networks to international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computer purchasing incent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computer science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user friendly bank webs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network secur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cooperation schemes with Pol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insurance schemes for on line transa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remuneration on mandatory provi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bank governance rules consistent with company l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financial markets' rules across products and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dernize documentation flo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bank account opening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ove filters non-consistent with Basel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ndardize corporate contractual 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oid payment of insurance fees on deposits by corporate cl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forfeit busine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loan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opt international standards on working week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ptimize consumer protection la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oid duplication in mandatory documentation for consum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ndardize mortgage contractual 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mortgage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8"/>
          <p:cNvSpPr/>
          <p:nvPr/>
        </p:nvSpPr>
        <p:spPr>
          <a:xfrm>
            <a:off x="609480" y="380880"/>
            <a:ext cx="38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Transaction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ttangolo 13"/>
          <p:cNvSpPr/>
          <p:nvPr/>
        </p:nvSpPr>
        <p:spPr>
          <a:xfrm>
            <a:off x="609480" y="685800"/>
            <a:ext cx="381024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asellaDiTesto 5"/>
          <p:cNvSpPr/>
          <p:nvPr/>
        </p:nvSpPr>
        <p:spPr>
          <a:xfrm>
            <a:off x="0" y="-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ANCIAL MODERNIZATION OPPORTUN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inancial Modernization Challe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5181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6324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Marco Spallone, “Conceptual Framework to Assess Financial Modernization Needs”, Bari, 7 Nov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ubstituent număr diapozitiv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7AD2-9AA1-4970-B137-F64D934E7E9E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981080" y="1371600"/>
            <a:ext cx="541044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I Public-Private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 Bank - Banking Associ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stry of Finance - Consumer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55640" y="2743200"/>
            <a:ext cx="2598840" cy="3633840"/>
            <a:chOff x="755640" y="2743200"/>
            <a:chExt cx="2598840" cy="3633840"/>
          </a:xfrm>
        </p:grpSpPr>
        <p:sp>
          <p:nvSpPr>
            <p:cNvPr id="149" name="Line 29"/>
            <p:cNvSpPr/>
            <p:nvPr/>
          </p:nvSpPr>
          <p:spPr>
            <a:xfrm flipV="1">
              <a:off x="755640" y="2743200"/>
              <a:ext cx="198756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762120" y="3505320"/>
              <a:ext cx="2592360" cy="2871720"/>
              <a:chOff x="762120" y="3505320"/>
              <a:chExt cx="2592360" cy="2871720"/>
            </a:xfrm>
          </p:grpSpPr>
          <p:sp>
            <p:nvSpPr>
              <p:cNvPr id="151" name="Text Box 45"/>
              <p:cNvSpPr/>
              <p:nvPr/>
            </p:nvSpPr>
            <p:spPr>
              <a:xfrm>
                <a:off x="762120" y="3505320"/>
                <a:ext cx="2592360" cy="2871720"/>
              </a:xfrm>
              <a:prstGeom prst="rect">
                <a:avLst/>
              </a:prstGeom>
              <a:solidFill>
                <a:srgbClr val="00ffff">
                  <a:alpha val="14000"/>
                </a:srgbClr>
              </a:solidFill>
              <a:ln cap="rnd" w="22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6"/>
              <p:cNvSpPr/>
              <p:nvPr/>
            </p:nvSpPr>
            <p:spPr>
              <a:xfrm>
                <a:off x="900000" y="5516640"/>
                <a:ext cx="2449800" cy="790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ublic and Private Exper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12"/>
              <p:cNvSpPr/>
              <p:nvPr/>
            </p:nvSpPr>
            <p:spPr>
              <a:xfrm>
                <a:off x="1332000" y="4724280"/>
                <a:ext cx="1728720" cy="503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Manager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17"/>
              <p:cNvSpPr/>
              <p:nvPr/>
            </p:nvSpPr>
            <p:spPr>
              <a:xfrm>
                <a:off x="1332000" y="3860640"/>
                <a:ext cx="1728720" cy="503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Owner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33"/>
              <p:cNvSpPr/>
              <p:nvPr/>
            </p:nvSpPr>
            <p:spPr>
              <a:xfrm flipV="1">
                <a:off x="2195640" y="530028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38"/>
              <p:cNvSpPr/>
              <p:nvPr/>
            </p:nvSpPr>
            <p:spPr>
              <a:xfrm flipV="1">
                <a:off x="2195640" y="443664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3492360" y="2819160"/>
            <a:ext cx="5472360" cy="3552840"/>
            <a:chOff x="3492360" y="2819160"/>
            <a:chExt cx="5472360" cy="3552840"/>
          </a:xfrm>
        </p:grpSpPr>
        <p:grpSp>
          <p:nvGrpSpPr>
            <p:cNvPr id="158" name=""/>
            <p:cNvGrpSpPr/>
            <p:nvPr/>
          </p:nvGrpSpPr>
          <p:grpSpPr>
            <a:xfrm>
              <a:off x="3492360" y="3123720"/>
              <a:ext cx="2592360" cy="3248280"/>
              <a:chOff x="3492360" y="3123720"/>
              <a:chExt cx="2592360" cy="324828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3492360" y="3500280"/>
                <a:ext cx="2592360" cy="2871720"/>
                <a:chOff x="3492360" y="3500280"/>
                <a:chExt cx="2592360" cy="2871720"/>
              </a:xfrm>
            </p:grpSpPr>
            <p:sp>
              <p:nvSpPr>
                <p:cNvPr id="160" name="Text Box 46"/>
                <p:cNvSpPr/>
                <p:nvPr/>
              </p:nvSpPr>
              <p:spPr>
                <a:xfrm>
                  <a:off x="3492360" y="3500280"/>
                  <a:ext cx="2592360" cy="2871720"/>
                </a:xfrm>
                <a:prstGeom prst="rect">
                  <a:avLst/>
                </a:prstGeom>
                <a:solidFill>
                  <a:srgbClr val="00ffff">
                    <a:alpha val="14000"/>
                  </a:srgbClr>
                </a:solidFill>
                <a:ln cap="rnd" w="2232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Rectangle 8"/>
                <p:cNvSpPr/>
                <p:nvPr/>
              </p:nvSpPr>
              <p:spPr>
                <a:xfrm>
                  <a:off x="3564000" y="5516640"/>
                  <a:ext cx="2449440" cy="790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ublic and Private Expert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Rectangle 18"/>
                <p:cNvSpPr/>
                <p:nvPr/>
              </p:nvSpPr>
              <p:spPr>
                <a:xfrm>
                  <a:off x="3780000" y="3860640"/>
                  <a:ext cx="1728720" cy="5032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Owner 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39"/>
                <p:cNvSpPr/>
                <p:nvPr/>
              </p:nvSpPr>
              <p:spPr>
                <a:xfrm flipV="1">
                  <a:off x="4716360" y="4436640"/>
                  <a:ext cx="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Rectangle 14"/>
              <p:cNvSpPr/>
              <p:nvPr/>
            </p:nvSpPr>
            <p:spPr>
              <a:xfrm>
                <a:off x="3780000" y="4724280"/>
                <a:ext cx="1728720" cy="503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Manager 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21"/>
              <p:cNvSpPr/>
              <p:nvPr/>
            </p:nvSpPr>
            <p:spPr>
              <a:xfrm flipV="1">
                <a:off x="4724280" y="31237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34"/>
              <p:cNvSpPr/>
              <p:nvPr/>
            </p:nvSpPr>
            <p:spPr>
              <a:xfrm flipV="1">
                <a:off x="4716360" y="530028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012000" y="2819160"/>
              <a:ext cx="2952720" cy="3552840"/>
              <a:chOff x="6012000" y="2819160"/>
              <a:chExt cx="2952720" cy="3552840"/>
            </a:xfrm>
          </p:grpSpPr>
          <p:sp>
            <p:nvSpPr>
              <p:cNvPr id="168" name="Line 22"/>
              <p:cNvSpPr/>
              <p:nvPr/>
            </p:nvSpPr>
            <p:spPr>
              <a:xfrm flipH="1" flipV="1">
                <a:off x="6552720" y="2819160"/>
                <a:ext cx="20574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6012000" y="3500280"/>
                <a:ext cx="2952720" cy="2871720"/>
                <a:chOff x="6012000" y="3500280"/>
                <a:chExt cx="2952720" cy="2871720"/>
              </a:xfrm>
            </p:grpSpPr>
            <p:sp>
              <p:nvSpPr>
                <p:cNvPr id="170" name="Text Box 47"/>
                <p:cNvSpPr/>
                <p:nvPr/>
              </p:nvSpPr>
              <p:spPr>
                <a:xfrm>
                  <a:off x="6372360" y="3500280"/>
                  <a:ext cx="2592360" cy="2871720"/>
                </a:xfrm>
                <a:prstGeom prst="rect">
                  <a:avLst/>
                </a:prstGeom>
                <a:solidFill>
                  <a:srgbClr val="00ffff">
                    <a:alpha val="14000"/>
                  </a:srgbClr>
                </a:solidFill>
                <a:ln cap="rnd" w="2232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9"/>
                <p:cNvSpPr/>
                <p:nvPr/>
              </p:nvSpPr>
              <p:spPr>
                <a:xfrm>
                  <a:off x="6443640" y="5516640"/>
                  <a:ext cx="2449440" cy="790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ublic and Private Expert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Text Box 10"/>
                <p:cNvSpPr/>
                <p:nvPr/>
              </p:nvSpPr>
              <p:spPr>
                <a:xfrm>
                  <a:off x="6012000" y="558972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15"/>
                <p:cNvSpPr/>
                <p:nvPr/>
              </p:nvSpPr>
              <p:spPr>
                <a:xfrm>
                  <a:off x="6732720" y="4724280"/>
                  <a:ext cx="1728720" cy="5032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Manager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Text Box 16"/>
                <p:cNvSpPr/>
                <p:nvPr/>
              </p:nvSpPr>
              <p:spPr>
                <a:xfrm>
                  <a:off x="6012000" y="472428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9"/>
                <p:cNvSpPr/>
                <p:nvPr/>
              </p:nvSpPr>
              <p:spPr>
                <a:xfrm>
                  <a:off x="6732720" y="3860640"/>
                  <a:ext cx="1728720" cy="5032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Owner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Text Box 23"/>
                <p:cNvSpPr/>
                <p:nvPr/>
              </p:nvSpPr>
              <p:spPr>
                <a:xfrm>
                  <a:off x="6012000" y="400536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35"/>
                <p:cNvSpPr/>
                <p:nvPr/>
              </p:nvSpPr>
              <p:spPr>
                <a:xfrm flipV="1">
                  <a:off x="7740720" y="5300280"/>
                  <a:ext cx="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40"/>
                <p:cNvSpPr/>
                <p:nvPr/>
              </p:nvSpPr>
              <p:spPr>
                <a:xfrm flipV="1">
                  <a:off x="7667640" y="450864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9" name="Text Box 44"/>
          <p:cNvSpPr/>
          <p:nvPr/>
        </p:nvSpPr>
        <p:spPr>
          <a:xfrm>
            <a:off x="1042920" y="350028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079640" y="6453360"/>
            <a:ext cx="8064360" cy="436680"/>
            <a:chOff x="1079640" y="6453360"/>
            <a:chExt cx="8064360" cy="436680"/>
          </a:xfrm>
        </p:grpSpPr>
        <p:sp>
          <p:nvSpPr>
            <p:cNvPr id="181" name="Text Box 49"/>
            <p:cNvSpPr/>
            <p:nvPr/>
          </p:nvSpPr>
          <p:spPr>
            <a:xfrm>
              <a:off x="1079640" y="6491160"/>
              <a:ext cx="80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OLUTION FINDING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(Through RIA-based public-private consultation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48"/>
            <p:cNvSpPr/>
            <p:nvPr/>
          </p:nvSpPr>
          <p:spPr>
            <a:xfrm rot="5400000">
              <a:off x="4644360" y="3067560"/>
              <a:ext cx="142560" cy="6913440"/>
            </a:xfrm>
            <a:custGeom>
              <a:avLst/>
              <a:gdLst>
                <a:gd name="textAreaLeft" fmla="*/ 0 w 142560"/>
                <a:gd name="textAreaRight" fmla="*/ 51480 w 142560"/>
                <a:gd name="textAreaTop" fmla="*/ 180000 h 6913440"/>
                <a:gd name="textAreaBottom" fmla="*/ 6733440 h 691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50"/>
          <p:cNvSpPr/>
          <p:nvPr/>
        </p:nvSpPr>
        <p:spPr>
          <a:xfrm>
            <a:off x="0" y="974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GRAM SETTING,  SOLUTION ENDORSEMENT AND ENACTMENT MONITO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ance: The SPI Plat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819520" y="2290680"/>
            <a:ext cx="3673440" cy="834840"/>
            <a:chOff x="2819520" y="2290680"/>
            <a:chExt cx="3673440" cy="834840"/>
          </a:xfrm>
        </p:grpSpPr>
        <p:grpSp>
          <p:nvGrpSpPr>
            <p:cNvPr id="186" name=""/>
            <p:cNvGrpSpPr/>
            <p:nvPr/>
          </p:nvGrpSpPr>
          <p:grpSpPr>
            <a:xfrm>
              <a:off x="2819520" y="2604960"/>
              <a:ext cx="3673440" cy="520560"/>
              <a:chOff x="2819520" y="2604960"/>
              <a:chExt cx="3673440" cy="520560"/>
            </a:xfrm>
          </p:grpSpPr>
          <p:sp>
            <p:nvSpPr>
              <p:cNvPr id="187" name="Rectangle 24"/>
              <p:cNvSpPr/>
              <p:nvPr/>
            </p:nvSpPr>
            <p:spPr>
              <a:xfrm rot="5400000">
                <a:off x="4440240" y="983880"/>
                <a:ext cx="431640" cy="367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28"/>
              <p:cNvSpPr/>
              <p:nvPr/>
            </p:nvSpPr>
            <p:spPr>
              <a:xfrm>
                <a:off x="3352680" y="2604960"/>
                <a:ext cx="2881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PI Secretaria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Line 21"/>
            <p:cNvSpPr/>
            <p:nvPr/>
          </p:nvSpPr>
          <p:spPr>
            <a:xfrm flipV="1">
              <a:off x="4716360" y="22906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042920" y="350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350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16720" y="350028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0"/>
          <p:cNvSpPr/>
          <p:nvPr/>
        </p:nvSpPr>
        <p:spPr>
          <a:xfrm>
            <a:off x="1600200" y="299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MANAGEMENT AND CONSENSUS-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I Romania Has Mobilized &gt; 120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Imagine 39" descr="pic05006.gif"/>
          <p:cNvPicPr/>
          <p:nvPr/>
        </p:nvPicPr>
        <p:blipFill>
          <a:blip r:embed="rId1"/>
          <a:stretch/>
        </p:blipFill>
        <p:spPr>
          <a:xfrm>
            <a:off x="900000" y="115920"/>
            <a:ext cx="7344000" cy="1152360"/>
          </a:xfrm>
          <a:prstGeom prst="rect">
            <a:avLst/>
          </a:prstGeom>
          <a:ln w="0">
            <a:noFill/>
          </a:ln>
        </p:spPr>
      </p:pic>
      <p:sp>
        <p:nvSpPr>
          <p:cNvPr id="196" name="Substituent conținut 2"/>
          <p:cNvSpPr/>
          <p:nvPr/>
        </p:nvSpPr>
        <p:spPr>
          <a:xfrm>
            <a:off x="611280" y="1916280"/>
            <a:ext cx="435744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National Bank of Rom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Authority for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sumers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t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istry of Econo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inistry of Agricultur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Rur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stry of Interior and Administration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nt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on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Laundering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ransF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dit Bur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Authority for the Supervision of Personal Data Proce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ural Credit Guarantee Fu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rading Commission for C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tibl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eed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omanian Commoditie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omanian Stock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Securities Co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National Association for Consumers’ Protection and Promotion of Programs and Strategi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from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talian Banking Asso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E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ternational Financ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World Ba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asetăText 8"/>
          <p:cNvSpPr/>
          <p:nvPr/>
        </p:nvSpPr>
        <p:spPr>
          <a:xfrm>
            <a:off x="4800600" y="1957320"/>
            <a:ext cx="35179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Romanian Banking Assoc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ffeisen Ba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ffeisen Banca pentru Locuin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P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nc 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pha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D-G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Credit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Ţiria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B Romanian International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edit Europe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G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ti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B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 Bank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face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arg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KPM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Deloit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lifford 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lgorit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Bear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inancial Ombudsman Service, 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odwood Financial Consul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59280" y="2565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268280"/>
            <a:ext cx="8458200" cy="540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20:12:01Z</dcterms:created>
  <dc:creator>wb76399</dc:creator>
  <dc:description/>
  <dc:language>en-US</dc:language>
  <cp:lastModifiedBy>WB76399</cp:lastModifiedBy>
  <dcterms:modified xsi:type="dcterms:W3CDTF">2008-12-04T09:27:46Z</dcterms:modified>
  <cp:revision>62</cp:revision>
  <dc:subject/>
  <dc:title>Slide 1</dc:title>
</cp:coreProperties>
</file>